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676-2794-4B13-BDD7-EF5C230C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760-202A-4F61-9EBC-6C875E0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836-448E-42E3-8B03-7021AAFB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6CD-50ED-4A0E-ACA3-88639188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9D3-1733-481E-A5EE-D16A5DB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440-2E4A-4EBF-B799-04E6189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D30-BB44-4345-BC64-CC72057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20F-FDB9-4EEC-8633-A4F1201F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F8D-A4FD-4A6A-9928-245C7ADA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891-E7CE-4F69-9D71-8C14C43B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574-41DB-451A-9DAA-EB8B243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51C-DCC8-4BD0-879F-7F93959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F1DA-58D0-4231-BC42-16F0DCD1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tud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r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cession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of-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reading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cedure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eries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mod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ter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performed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lated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ody-part-exa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ing-Service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toco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413000"/>
            <a:ext cx="799308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Imag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image-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der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ource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s-in-acquisition (could be put in the acquisition process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quality-control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urned-in-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Pixe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amples-per-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otometric-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high-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lanar-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aspect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41300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gital Imaging and Communications in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349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Joint standard from American College of Radi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National Electronic Manufacturer’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284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 standard method for transferring images and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formation between devices manufactured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292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ddresses the needs particularly of Radi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utiframe Im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rge number of images can be sent as on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ll attributes equal to all images or their groups sen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in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Multifram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460520"/>
            <a:ext cx="8713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92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58680"/>
            <a:ext cx="70563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654200"/>
            <a:ext cx="864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condary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What should Image Ontology 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Structur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799308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Template Specifications which include: Concept 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quirement, Value Type, Value Multiplicity, Valu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striction, Relationship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988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341360"/>
            <a:ext cx="367164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341360"/>
            <a:ext cx="367200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COM Image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13000"/>
            <a:ext cx="7993080" cy="2879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bject (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bstraction of a real information ent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, CT Image, Structured Report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cted upon by one or more DICOM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nym of Information Object Definition (I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Bas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920" y="4437000"/>
            <a:ext cx="7993080" cy="2087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uctured description of a service which is suppo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cooperating DIC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specific DICOM Commands a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specific class of Informatio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34136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ver the depth to the extent DICOM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e DICOM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classify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rovide correct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28464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a reference ontology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not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7120"/>
            <a:ext cx="8785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852640"/>
            <a:ext cx="7993080" cy="22338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te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dditionally include Attributes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related to but not inherent in the real-world 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Patient Name togeth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d Tomography Image Information Obje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Information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341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es only those Attributes inh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real-world entity re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229360"/>
            <a:ext cx="7993080" cy="1368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es the communication requirements of im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mage dat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data needs to be closely associ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ntity and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842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7:34:46Z</dcterms:created>
  <dc:creator>Powerpt</dc:creator>
  <dc:description/>
  <dc:language>en-US</dc:language>
  <cp:lastModifiedBy>Anand Kumar</cp:lastModifiedBy>
  <dcterms:modified xsi:type="dcterms:W3CDTF">2006-03-25T00:16:13Z</dcterms:modified>
  <cp:revision>429</cp:revision>
  <dc:subject/>
  <dc:title>Caveats on  Knowledge Discovery and Data Mining (KDDM) for Bio-Terrorism Detection</dc:title>
</cp:coreProperties>
</file>